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BBF6-9E82-4117-B4B8-88FF79D5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9303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9192-87EA-4CA5-BA40-F09F26B7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102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2A9A-335B-49F1-9EFD-6BD412D8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942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8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9303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0942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8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1229-3ADF-43DE-AA48-8049DB79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3B33-2773-4FEE-AF2E-5CDEB35F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5D64-9B61-4FCD-B03B-C4115515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683C-2C9B-4E6F-94F8-2708D5C7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F61F-243C-4168-90B5-081EC083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CEED-6E84-4E56-8DF5-A6E688C1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44520" y="12474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9412-DA37-466A-99B3-8747D4F3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D049-9E8D-41D2-A947-F1F10FAF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B1A8-07BE-4F99-B497-EE937813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102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B8C3-2BB3-4BCC-A0F2-4900BEF8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8184-EF99-46DD-97F8-D98C9B4C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9303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A7F7-C800-4313-BF7D-2D4693D9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102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E782-E892-4236-8D41-9094D5B9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0942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58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9303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0942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258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A12B-9B98-4426-B7FE-0A2CC1F2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9064-2556-4E27-AE3B-50DFC505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0DFB-320B-4AB4-A98A-E27778FE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63A3-EB0B-492C-B585-0672E478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44520" y="12474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F2DD-737D-45E9-9B1D-BD0FFBB8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C59E-2766-4DCD-BAD0-3F5E1AA4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102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6A11-E6AE-43FD-BD23-B7585C32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8420-1D15-4926-AB8E-8E3E9DE6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E62A-8090-4A1F-8C5D-CD1D919A0514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0310-9420-4489-833D-AA30A0A267CE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dy"/>
              </a:rPr>
              <a:t>LANDFORMS AND WATER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Perdy"/>
              </a:rPr>
              <a:t>B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Perdy"/>
              </a:rPr>
              <a:t>Mr. 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Here you go with another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arrow body of water running over the lan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4305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Maybe you know this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eep narrow valley with steep wall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57480" y="2057400"/>
            <a:ext cx="3809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Here is another one for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levated land with sloping sides and rounded tops that are smaller than mountain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430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am guessing you know what this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arge landform with a variety of activity underneat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tisse ITC"/>
              </a:rPr>
              <a:t>Keep GOING YOU ARE DOING GREAT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atisse ITC"/>
              </a:rPr>
              <a:t>Landform with steep sides and usually flat on top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57480" y="1905120"/>
            <a:ext cx="4228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Lucida Blackletter"/>
              </a:rPr>
              <a:t>We are getting there almost d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Lucida Blackletter"/>
              </a:rPr>
              <a:t>A group of small island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419720" y="1981080"/>
            <a:ext cx="4495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e talked about this on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is is a dried up river bed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257480" y="2133720"/>
            <a:ext cx="3809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바탕"/>
              </a:rPr>
              <a:t>What do we call this landf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oad, flat topped landform with steep sides, smaller than a plateau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57480" y="2286000"/>
            <a:ext cx="3809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we have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lat low lying land built up by soil being carried down stream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3809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I think this will be an easy one for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and with water on all 4 side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4077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am going to show you a group of different landforms and waterway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Your job is to identify each of them after I give you a brief descriptio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ady…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an you guess this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ody of water extending into the land…smaller than a gulf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4000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A few more to 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arrow strip of land connecting 2 larger pieces of land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5748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cZee"/>
              </a:rPr>
              <a:t>THIS IS IT…LAST ONE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cZee"/>
              </a:rPr>
              <a:t>Area of level land, usually at low elevations and covered with gras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43434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erdy"/>
              </a:rPr>
              <a:t>SUPER JOB ALL OF YOU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Perdy"/>
              </a:rPr>
              <a:t>Lets go over them to see how well you did, I am sure you did well!!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ody of water surrounded by lan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4152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YOU NAME THIS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Landform with steep sides and capped with snow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area of land in between mountains and hill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38098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this is call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arge mass of slow moving ice across the land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3733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encil"/>
              </a:rPr>
              <a:t>Can you name this body of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arge body of water with land on 3 side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4000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What do we have here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maller river flowing into a larger riv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57480" y="2133720"/>
            <a:ext cx="40766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y idea what we have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badi MT Condensed Light"/>
              </a:rPr>
              <a:t>Land with water on 3 sid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57480" y="1981080"/>
            <a:ext cx="3809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23:44:19Z</dcterms:created>
  <dc:creator>Snyder</dc:creator>
  <dc:description/>
  <dc:language>en-US</dc:language>
  <cp:lastModifiedBy>dansnyder</cp:lastModifiedBy>
  <dcterms:modified xsi:type="dcterms:W3CDTF">2008-11-19T19:23:32Z</dcterms:modified>
  <cp:revision>2</cp:revision>
  <dc:subject/>
  <dc:title>LANDFORMS AND WATERWAYS</dc:title>
</cp:coreProperties>
</file>